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C7FC-3CB3-4D7F-96A8-5A80E6518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FC3F-E1CC-49FA-A1BC-09605154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FE2A-5BEB-44E8-A55D-A9FAE1E65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9400-3BC2-476B-A65B-5AB352859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7689-9736-4CFC-9BF2-4B21C199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9BCA-6A15-4C80-8039-01DAD779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DC35-4716-427D-B030-FF364375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8B4B-AFC9-4626-89D8-1B551FEB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66E2-B769-41A7-BC22-441610EA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0436-5169-4908-AE54-C20ECD09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099C-DF96-4E72-B298-85B976F6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1E3B-11B7-4CBC-AFC9-40A8D798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58F3-24A7-4264-9ADF-3E851E3DB7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rcRect l="9096" t="20348" r="7756" b="70241"/>
          <a:stretch/>
        </p:blipFill>
        <p:spPr>
          <a:xfrm>
            <a:off x="817560" y="301680"/>
            <a:ext cx="5205240" cy="792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rcRect l="9357" t="29598" r="8143" b="61128"/>
          <a:stretch/>
        </p:blipFill>
        <p:spPr>
          <a:xfrm>
            <a:off x="893880" y="2771640"/>
            <a:ext cx="5146560" cy="777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"/>
          <p:cNvPicPr/>
          <p:nvPr/>
        </p:nvPicPr>
        <p:blipFill>
          <a:blip r:embed="rId3"/>
          <a:stretch/>
        </p:blipFill>
        <p:spPr>
          <a:xfrm>
            <a:off x="934920" y="7740720"/>
            <a:ext cx="5187960" cy="819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4"/>
          <a:stretch/>
        </p:blipFill>
        <p:spPr>
          <a:xfrm>
            <a:off x="995400" y="4859280"/>
            <a:ext cx="5138640" cy="793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"/>
          <p:cNvPicPr/>
          <p:nvPr/>
        </p:nvPicPr>
        <p:blipFill>
          <a:blip r:embed="rId5"/>
          <a:stretch/>
        </p:blipFill>
        <p:spPr>
          <a:xfrm>
            <a:off x="942840" y="6634080"/>
            <a:ext cx="5178600" cy="874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"/>
          <p:cNvPicPr/>
          <p:nvPr/>
        </p:nvPicPr>
        <p:blipFill>
          <a:blip r:embed="rId6"/>
          <a:stretch/>
        </p:blipFill>
        <p:spPr>
          <a:xfrm>
            <a:off x="895320" y="3780000"/>
            <a:ext cx="5148360" cy="809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"/>
          <p:cNvPicPr/>
          <p:nvPr/>
        </p:nvPicPr>
        <p:blipFill>
          <a:blip r:embed="rId7"/>
          <a:stretch/>
        </p:blipFill>
        <p:spPr>
          <a:xfrm>
            <a:off x="922320" y="5796000"/>
            <a:ext cx="5176800" cy="838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"/>
          <p:cNvPicPr/>
          <p:nvPr/>
        </p:nvPicPr>
        <p:blipFill>
          <a:blip r:embed="rId8"/>
          <a:stretch/>
        </p:blipFill>
        <p:spPr>
          <a:xfrm>
            <a:off x="942840" y="1441440"/>
            <a:ext cx="5145120" cy="8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>User</dc:creator>
  <dc:description/>
  <dc:language>en-US</dc:language>
  <cp:lastModifiedBy>Наталья</cp:lastModifiedBy>
  <dcterms:modified xsi:type="dcterms:W3CDTF">2023-11-20T17:50:01Z</dcterms:modified>
  <cp:revision>51</cp:revision>
  <dc:subject/>
  <dc:title>Слайд 1</dc:title>
</cp:coreProperties>
</file>